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E77-6A2E-4473-AF34-AF4A69ED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B2C-2100-47BB-842C-58F9060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528-955D-41E6-8C78-50D895F8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774-ED4A-4C10-9F30-21CFE792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CC1-6D94-4A1E-8461-2933AD6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71D-4683-4987-BDCF-D805F9C7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456-F5E0-4741-8F9F-CACDE4DA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338-AC0C-4EFE-A122-05A4E30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570-EB1A-4503-9419-9026804E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FED-02FD-447F-8637-418FEE3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819-1DBE-472C-A1DF-4C98CF8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E3E-22A2-473C-B07C-6AC620F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1060-0012-4F44-9E50-D50D3460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rogleap.xls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9625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BLEMA DE LAS R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54864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icolás Mos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acultad de Ciencias Exac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niversidad Nacional del Centro de la Provincia de Buenos 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ÉCNICA  DE  DISEÑO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BACKTRAC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5040" y="12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9772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unci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ienen seis ranas, tres verdes a la izquierda y tres marrones a la derecha, en donde una rana puede avanzar (en el sentido hacia donde mira) de a una piedra a la vez o saltar otra rana (siempre y cuando exista un espacio libre justo detrás de la rana que esta siendo salta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riba  un  algoritmo  que deduzca la secuencia de movimientos que se debe realizar para llevar las ranas verdes al extremo derecho y las ranas marrones al izquie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Problema: Las Ra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gura Represen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ana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828800"/>
            <a:ext cx="68864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64850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jemplo: las 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787320"/>
            <a:ext cx="832176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(estado e, solucion *sol)         \\</a:t>
            </a:r>
            <a:r>
              <a:rPr b="0" i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: nodo del árbol de solu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\\</a:t>
            </a:r>
            <a:r>
              <a:rPr b="0" i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: solución que retor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O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Solución (e, so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ohijo = 1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siguient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1" lang="es-AR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IJOS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rohijo, e, siguiente )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 if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 !</a:t>
            </a:r>
            <a:r>
              <a:rPr b="1" lang="es-AR" sz="2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ODADO 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siguiente, sol)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siguiente, sol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nrohijo;   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squem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040" y="12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39772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ategi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r todas las combinaciones de movimientos posibles de las ranas para encontrar solu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ategia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r todas las combinaciones de movimientos posibles siempre pensando en tapar la piedra que se encuentre li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sibles Estrateg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64850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jemplo: las 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438280"/>
            <a:ext cx="86868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da ra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da movimie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la ra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factible el movimient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aplico el movimiento; almaceno el movimi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co a Ranas con el nuevo esta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hago el movimiento; elimino el movimi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oid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(estado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960" y="1676520"/>
            <a:ext cx="76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posible solucion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estro la secuencia de movimientos guardad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Algoritmo 1 para todas las solu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276720"/>
            <a:ext cx="47242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anas%20fin" descr=""/>
          <p:cNvPicPr/>
          <p:nvPr/>
        </p:nvPicPr>
        <p:blipFill>
          <a:blip r:embed="rId1"/>
          <a:stretch/>
        </p:blipFill>
        <p:spPr>
          <a:xfrm>
            <a:off x="5586480" y="757080"/>
            <a:ext cx="3494160" cy="126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3990960"/>
            <a:ext cx="45720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64850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jemplo: las 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438280"/>
            <a:ext cx="86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da ra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que se encuentra a menos de 2 piedras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da movimie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la ra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factible el movimient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aplico el movimiento; almaceno el movimi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co a Ranas con el nuevo esta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hago el movimiento; elimino el movimi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oid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n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(estado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960" y="1676520"/>
            <a:ext cx="76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s-AR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a posible solucion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estro la secuencia de movimientos guardado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imes New Roman"/>
              </a:rPr>
              <a:t>Algoritmo 2 para todas las solu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276720"/>
            <a:ext cx="685800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343400"/>
            <a:ext cx="45720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anas%20fin" descr=""/>
          <p:cNvPicPr/>
          <p:nvPr/>
        </p:nvPicPr>
        <p:blipFill>
          <a:blip r:embed="rId1"/>
          <a:stretch/>
        </p:blipFill>
        <p:spPr>
          <a:xfrm>
            <a:off x="5586480" y="757080"/>
            <a:ext cx="34941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3600" y="1523880"/>
            <a:ext cx="30884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cc3300"/>
                </a:solidFill>
                <a:latin typeface="Times New Roman"/>
              </a:rPr>
              <a:t>¿?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3:32:44Z</dcterms:created>
  <dc:creator>Daniel</dc:creator>
  <dc:description/>
  <dc:language>en-US</dc:language>
  <cp:lastModifiedBy>Nicolas Mosca</cp:lastModifiedBy>
  <dcterms:modified xsi:type="dcterms:W3CDTF">2006-09-20T14:43:35Z</dcterms:modified>
  <cp:revision>80</cp:revision>
  <dc:subject/>
  <dc:title>Presentación de PowerPoint</dc:title>
</cp:coreProperties>
</file>